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3DB8-8EEB-4037-8BAE-85B38261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A3F2-0C64-420C-811C-53944CA0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E5D4-BEB5-4FFA-BA3E-29A03B74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1E6B-51A6-4C65-BF88-58FF7B0A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DFE7-FBAE-4283-9BB0-7285124A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EE92-A6F6-43C5-842E-CC482CD6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2632-0F5F-471B-876C-3FA46435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3E8C-A1AC-41F3-A0B2-DFF6136A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007F-2A09-42C6-88BB-E75EC87D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EE46-6F68-4D34-B05D-E95C1792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5599-38C5-4F7F-B704-E8BDF1C5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EC6E-CE42-436A-82A1-42335DF1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A5E9-1732-4569-8162-D635A27527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s://sites.google.com/a/mpls.k12.mn.us/ell2/w-apt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hyperlink" Target="https://sites.google.com/a/mpls.k12.mn.us/ell2/w-apt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plsesl.wikispaces.com/MDE-WIDA-ProgressMonitor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uccess Breeds Success” ELD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“Leveling Up” &amp;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oing for an Easy Wi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943600" y="4648320"/>
            <a:ext cx="2743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ohn Wol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ltilingual Depart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pt. 14,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3438360" cy="3504960"/>
          </a:xfrm>
          <a:prstGeom prst="rect">
            <a:avLst/>
          </a:prstGeom>
          <a:ln w="0">
            <a:noFill/>
          </a:ln>
        </p:spPr>
      </p:pic>
      <p:sp>
        <p:nvSpPr>
          <p:cNvPr id="44" name="Rounded Rectangular Callout 3"/>
          <p:cNvSpPr/>
          <p:nvPr/>
        </p:nvSpPr>
        <p:spPr>
          <a:xfrm>
            <a:off x="3581280" y="3048120"/>
            <a:ext cx="3124440" cy="1295280"/>
          </a:xfrm>
          <a:prstGeom prst="wedgeRoundRectCallout">
            <a:avLst>
              <a:gd name="adj1" fmla="val -79930"/>
              <a:gd name="adj2" fmla="val 2571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nning isn’t everything; it’s the only th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Vince Lombard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800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ce this is the only writing test they do …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) give them practice … and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3" descr=""/>
          <p:cNvPicPr/>
          <p:nvPr/>
        </p:nvPicPr>
        <p:blipFill>
          <a:blip r:embed="rId1"/>
          <a:stretch/>
        </p:blipFill>
        <p:spPr>
          <a:xfrm>
            <a:off x="2971800" y="1066680"/>
            <a:ext cx="3733920" cy="489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3657600" cy="486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4" name="Rounded Rectangular Callout 5"/>
          <p:cNvSpPr/>
          <p:nvPr/>
        </p:nvSpPr>
        <p:spPr>
          <a:xfrm>
            <a:off x="6629400" y="401760"/>
            <a:ext cx="2438280" cy="5181480"/>
          </a:xfrm>
          <a:prstGeom prst="wedgeRoundRectCallout">
            <a:avLst>
              <a:gd name="adj1" fmla="val -151203"/>
              <a:gd name="adj2" fmla="val 44546"/>
              <a:gd name="adj3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know what the prompt looks like … a 15-20 one-page writing task on a bizarre academic challeng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w often do students have a chance to practice this over the course of the year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ould it be useful to them to do similar, content-related task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4267080" y="6062760"/>
            <a:ext cx="441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ownload all the W-APT stuff at the ELL2 Google Apps Site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sites.google.com/a/mpls.k12.mn.us/ell2/w-apt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352680" y="30456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) Show them wha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’re shooting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rcRect l="3006" t="0" r="3653" b="0"/>
          <a:stretch/>
        </p:blipFill>
        <p:spPr>
          <a:xfrm>
            <a:off x="5486400" y="1447920"/>
            <a:ext cx="344160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685800" y="125280"/>
            <a:ext cx="2960640" cy="353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9" name="Picture 5" descr=""/>
          <p:cNvPicPr/>
          <p:nvPr/>
        </p:nvPicPr>
        <p:blipFill>
          <a:blip r:embed="rId3"/>
          <a:stretch/>
        </p:blipFill>
        <p:spPr>
          <a:xfrm>
            <a:off x="2666880" y="3227400"/>
            <a:ext cx="3022560" cy="343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Rounded Rectangular Callout 6"/>
          <p:cNvSpPr/>
          <p:nvPr/>
        </p:nvSpPr>
        <p:spPr>
          <a:xfrm>
            <a:off x="7086600" y="4710240"/>
            <a:ext cx="1936800" cy="2133360"/>
          </a:xfrm>
          <a:prstGeom prst="wedgeRoundRectCallout">
            <a:avLst>
              <a:gd name="adj1" fmla="val -119879"/>
              <a:gd name="adj2" fmla="val -27152"/>
              <a:gd name="adj3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f sample responses clarify expectations for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us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n’t it reasonable to provide similar guidance to the students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457200" y="480060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ownload all the W-APT stuff at the ELL2 Google Apps Site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s://sites.google.com/a/mpls.k12.mn.us/ell2/w-apt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3) Easy Win 3? Go WHOLE HOG for ELD Support …</a:t>
            </a:r>
            <a:br>
              <a:rPr sz="2800"/>
            </a:b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plsesl.wikispaces.com/MDE-WIDA-ProgressMonit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ontent Placeholder 3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7086600" cy="534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3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610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629040" y="274320"/>
            <a:ext cx="2057400" cy="34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b-March: The WIDA AC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28600" y="73080"/>
            <a:ext cx="63072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ademic Achiev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270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28440" y="228600"/>
          <a:ext cx="9144000" cy="6161040"/>
        </p:xfrm>
        <a:graphic>
          <a:graphicData uri="http://schemas.openxmlformats.org/drawingml/2006/table">
            <a:tbl>
              <a:tblPr/>
              <a:tblGrid>
                <a:gridCol w="2286000"/>
                <a:gridCol w="6858000"/>
              </a:tblGrid>
              <a:tr h="1219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ndards/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arning Targets-ba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ademic standards as an intellectual James Bond (elegant and darin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43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nguage Int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x (?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get the strategy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x (?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get the Langu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x (?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get the p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392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IDA-Inform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DA core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ify the language demands of instruction to meet the language abilities of the students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?  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dify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amp; suppor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atively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sses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oid confounding learning &amp; langu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llaborativ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o much to do al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der … but not Impossi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1295280" y="14479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ing ELs’ language-related learning needs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4419720" y="2459160"/>
            <a:ext cx="4038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hat you’re aiming f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hat language the students can handl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ow to use the right langu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ow to know if the students are learning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ow to get all this d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57200" y="2362320"/>
            <a:ext cx="3733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s-Based /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rning Target Foc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DA-Inform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nguage Intens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ative Assess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abor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P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990720"/>
          <a:ext cx="8229600" cy="5638680"/>
        </p:xfrm>
        <a:graphic>
          <a:graphicData uri="http://schemas.openxmlformats.org/drawingml/2006/table">
            <a:tbl>
              <a:tblPr/>
              <a:tblGrid>
                <a:gridCol w="5790960"/>
                <a:gridCol w="2438640"/>
              </a:tblGrid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marL="228600" indent="-228600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 and after-school Learn-Work-and-Share session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re teachers will develop supports for these five features related to the specific topics, units, learning targets, and state standards they're currently working with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ry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3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) a Collaboration Institut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rgeted to ESL teachers and collaborating classroom teachers, to explore collaboration more in-dep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)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 NeXT teacher cohort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provide monthly and interim support to first-year ESL teachers and others (ESL teachers and collaborating partners) who have committed to the PD experienc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teachers and some ot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) a cohort of teachers pursuing National Board Certification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 will develop these five key features through carefully focused efforts to document best practices in their classrooms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ter Teachers” (cohort already form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(e) a "PD-in-a-box" presentation in which ESL teachers present the five key features to all other teachers in their building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twice -- once first quarter, once second quar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) on-line Moodle Cou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s that support each of these five features at three varying levels of depth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 to all (onl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) an on-line, public sharing si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just-in-time resources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re teachers across the district will publish the strategies and supports they're developing (creating, locating) for curriculum-related student learning (and access and use materials developed by their pee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and more teachers use this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52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Two Challenges to 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876920" y="1447920"/>
            <a:ext cx="38098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at the  same time accomplish grade-level content learning through their (Limited) Engli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685800" y="1444680"/>
            <a:ext cx="3048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have to learn English …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914400" y="1935000"/>
            <a:ext cx="2933640" cy="3810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4737240" y="2514600"/>
            <a:ext cx="40892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Measures of Suc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4883040" y="1297080"/>
            <a:ext cx="4251600" cy="3504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457200" y="2819520"/>
            <a:ext cx="3048120" cy="3043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304920" y="1676520"/>
            <a:ext cx="352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glish Language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5334120" y="4883040"/>
            <a:ext cx="352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ademic Achie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lish Language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41972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veling Up on the WIDA ACCESS test.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581640" cy="430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4095720" cy="430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14640" y="274680"/>
            <a:ext cx="29718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growth?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average, alittle above averag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22432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 rot="16200000">
            <a:off x="-2210040" y="28191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loser L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898040" cy="569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Rounded Rectangular Callout 4"/>
          <p:cNvSpPr/>
          <p:nvPr/>
        </p:nvSpPr>
        <p:spPr>
          <a:xfrm>
            <a:off x="4191120" y="1981080"/>
            <a:ext cx="1523880" cy="1067040"/>
          </a:xfrm>
          <a:prstGeom prst="wedgeRoundRectCallout">
            <a:avLst>
              <a:gd name="adj1" fmla="val -77685"/>
              <a:gd name="adj2" fmla="val 69712"/>
              <a:gd name="adj3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bout 60% of the way up … or a 1.1 gain for level 1-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ounded Rectangular Callout 5"/>
          <p:cNvSpPr/>
          <p:nvPr/>
        </p:nvSpPr>
        <p:spPr>
          <a:xfrm>
            <a:off x="5943600" y="2209680"/>
            <a:ext cx="1295280" cy="1067040"/>
          </a:xfrm>
          <a:prstGeom prst="wedgeRoundRectCallout">
            <a:avLst>
              <a:gd name="adj1" fmla="val -96689"/>
              <a:gd name="adj2" fmla="val 77129"/>
              <a:gd name="adj3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…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d 0.9 levels for Levels 2-3 and 0.8 for Levels 3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ounded Rectangular Callout 6"/>
          <p:cNvSpPr/>
          <p:nvPr/>
        </p:nvSpPr>
        <p:spPr>
          <a:xfrm>
            <a:off x="7391520" y="1943280"/>
            <a:ext cx="1143000" cy="1066680"/>
          </a:xfrm>
          <a:prstGeom prst="wedgeRoundRectCallout">
            <a:avLst>
              <a:gd name="adj1" fmla="val -3069"/>
              <a:gd name="adj2" fmla="val 151305"/>
              <a:gd name="adj3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ybe about 0.6 levels for Levels 4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sy Win 1: Discrepant in One A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y tanked one area, it’s probably an artifact of nerves or confusion/lack of familiarity with the demands of the t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probably pop that score up by just supporting the task a few times over the y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sy Win 2: Writing as a Le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Content Placeholder 3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91440" cy="51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7:44:20Z</dcterms:created>
  <dc:creator>John J. Wolfe</dc:creator>
  <dc:description/>
  <dc:language>en-US</dc:language>
  <cp:lastModifiedBy>John</cp:lastModifiedBy>
  <dcterms:modified xsi:type="dcterms:W3CDTF">2012-10-12T14:59:13Z</dcterms:modified>
  <cp:revision>33</cp:revision>
  <dc:subject/>
  <dc:title>Building the Plan While Flying It</dc:title>
</cp:coreProperties>
</file>